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5A4FD9-9578-45DA-A8A1-8E0D85D3A31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B5318C-BF88-404D-92B3-7518B20F710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580-69FE-4826-A042-DDA31F9C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29E-BA03-401D-BF70-A1B51BF7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6D3-60E1-4366-AEC7-42B2B4F6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E6E-9807-4F1B-8B9D-3F412042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E19-AFF1-470E-947D-D1E7441E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4C3-6936-4985-8E9A-C61A026E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04F-54BA-4C7B-8A18-B7267C8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BCD-68BC-4AF5-AB58-3A10A0E5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82F-B87E-464E-858E-78F1863A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E6E-6947-4B1E-B3DD-BEF9017A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87C-65CB-4939-B02A-9D6E011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B16-909A-4FBF-8A6F-BC4D6C79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B71681-947A-4C14-9BE7-A7E1D2ED82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tt. Darya Maji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partimento di Infor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versità degli studi di P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Motore Inferenz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191120"/>
            <a:ext cx="8153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modulo di un sistema espero che trova il matching tra i fatti nella memori a di lavoro ed i fatti contenuto nella base di conoscenza per trovare la soluzione ottimale ad un probl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760" y="838080"/>
            <a:ext cx="2300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Inferen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4880" y="1951200"/>
            <a:ext cx="7407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l processo usato per ricavare nuova conoscenza  da informazioni acquis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afd00"/>
                </a:solidFill>
                <a:latin typeface="Times New Roman"/>
              </a:rPr>
              <a:t>Schema Funzi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5440" y="1758960"/>
            <a:ext cx="2121120" cy="97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5873760"/>
            <a:ext cx="26542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9160" y="2901960"/>
            <a:ext cx="2197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73760" y="1758960"/>
            <a:ext cx="2197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9600" y="1812960"/>
            <a:ext cx="16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se 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osc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18080" y="3032280"/>
            <a:ext cx="163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erenzi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4080" y="592776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faccia Ut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65360" y="1889280"/>
            <a:ext cx="162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laz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1960" y="4578480"/>
            <a:ext cx="3492360" cy="74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32280" y="4784760"/>
            <a:ext cx="329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ulo Lingui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8840" y="1905120"/>
            <a:ext cx="25909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560" y="2057760"/>
            <a:ext cx="335196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3962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53341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7960" y="-533520"/>
            <a:ext cx="3047400" cy="65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-380880"/>
            <a:ext cx="365724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280" y="1378080"/>
            <a:ext cx="3263760" cy="1739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9680" y="2597040"/>
            <a:ext cx="3340080" cy="1587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1080" y="1225440"/>
            <a:ext cx="3949560" cy="50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121200" y="1617840"/>
          <a:ext cx="2814480" cy="44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1200" y="1617840"/>
                    <a:ext cx="28144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043000" y="303120"/>
            <a:ext cx="618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afd00"/>
                </a:solidFill>
                <a:latin typeface="Times New Roman"/>
              </a:rPr>
              <a:t>Esempio di architettura di un 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La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sistono diversi tipi di conoscen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spcAft>
                <a:spcPts val="4000"/>
              </a:spcAft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pub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spcAft>
                <a:spcPts val="4000"/>
              </a:spcAft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dichiarativ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spcAft>
                <a:spcPts val="4000"/>
              </a:spcAft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priv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spcAft>
                <a:spcPts val="4000"/>
              </a:spcAft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procedu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6160" y="1911240"/>
            <a:ext cx="4711680" cy="417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Types of Knowledg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21000" y="1981080"/>
          <a:ext cx="4414680" cy="407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1000" y="1981080"/>
                    <a:ext cx="44146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Selezione della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assest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chiarativa e Procedu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v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speriment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atta da dati (algoritmi induttiv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atta da test strumentali (sono da valid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76440" y="750600"/>
            <a:ext cx="680544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Wielinga et al, 1986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9320" y="2544480"/>
            <a:ext cx="8226360" cy="30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nowledge acquisition consists of elecitation and interpretation of data on the functioning of expertise in some domain , in order to design, build, extend, adapt or modify a knowledge based (expert)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is view, knowledge acquisition is a permanent and crucial activity throughout all stages of designing, implementing and maintaining an expert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trazione della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licitazione (bottlene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pret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malizz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ralizz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cquisi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Acquisizione della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Times New Roman"/>
              </a:rPr>
              <a:t>Thinking alou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l’esperto parla ad alta voce spiegando in dettaglio il suo ragionamento circa un ca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Times New Roman"/>
              </a:rPr>
              <a:t>Interview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l’ingegnere della conoscenza chiede domande circa un caso speci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Times New Roman"/>
              </a:rPr>
              <a:t>Cross-examina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l’ingenere e l’esperto parlano insieme di un ca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Linguaggi di formalizzazion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ppresentazione della conoscen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i semanti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fi concettuali (Sow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ack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Regol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a struttura di conoscenza che lega una informazione acquisita ad altre informazioni che possono  essere ritenute acquisi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ationshi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mma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r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u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Reti Semantich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metodo per rappresentare la conoscenza, usando grafi costituiti da nodi ed archi, dove i nodi rappresentano gli oggetti e gli archi le relazioni tra es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581280"/>
            <a:ext cx="7162560" cy="22100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Fram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a struttura dati per rappresentare attraverso uno stereotipo concetti ed ogget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ame N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Fr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Blackboard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approccio dove più fonti di conoscenza condividono informazioni contenute in una risorsa condivi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unity of knowledge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ack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rafi concettuali di Sow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Se assumiamo che la conoscenza di un 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qualcosa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 consista nell'abilità di costruire modelli mentali che rappresentino accuratamente sia quel qualcosa, sia le azioni effettuabili tramite e/o su quel qualcosa, i grafi concettuali sono il metodo di rappresentazione della conoscenza più idone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rafi concettuali di Sow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I grafi concettuali (GGC) infatti costituiscono un metodo di rappresentazione dei modelli mentali, ossia una rappresentazione della conoscenza capace di rilevare sistematicamente e formalmente come ciò che pensiamo riguardo ad un concetto possa essere descritto in termini delle sue relazioni con concetti di altri ti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76720" y="4343400"/>
            <a:ext cx="2971800" cy="533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rafi concettuali di Sow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e tipi di no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etti (concreti ed astratt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azioni (partof, object of, characteristic of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52440" y="4281480"/>
            <a:ext cx="1631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cep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1400" y="4343400"/>
            <a:ext cx="198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457200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5720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2920" y="5424480"/>
            <a:ext cx="6840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l nodo relazione spiega la dipendenza tra Concep1 e Concep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39280" y="4334040"/>
            <a:ext cx="1631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cep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rafi concettuali di Sow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Un GC è in grado di formalizzare sia concetti concreti sia concetti astratti. La potenza dei GGC risiede nel fatto che essi sono in grado di formalizzare una gerarchia di concetti: nella base della gerarchia vengono definiti i concetti concreti sui quali poggiano gli oggetti via via più astrat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200" y="2451240"/>
            <a:ext cx="8661600" cy="24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2520" y="2575080"/>
            <a:ext cx="511668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Ibrid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simboli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connessioni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erarchia tra grafi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Ogni oggetto concreto (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muscolo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, 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nervo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) viene formalizzato grazie ad un grafo. Anche gli oggetti  intermedi ed astratti (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ipotesi di sede di lesione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, 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attività elettrica muscolare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) vengono rappresentati  mediante grafi. Un dominio viene cosi sviluppato mediante una gerarchia di GG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erarchia tra grafi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un concetto concreto come ad esempio un muscolo viene rappresentato come un nodo concetto in un grafo di un livello intermedio (ad esempio 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attività elettrica muscolare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I GGC cosi costituiti sono collegati tra loro; nel grafo concettuale del concetto nervo si fa riferimento al nodo concetto muscolo che a sua volta viene formalizzato come grafo e vicever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Plesso Sacrale: nervi &amp; radici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1447920"/>
          <a:ext cx="685800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447920"/>
                    <a:ext cx="6858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empio: Nervo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2" marL="99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LinePrinter"/>
              </a:rPr>
              <a:t>Ner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Nome, Sensitivo-Motori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Radici da cui trae origin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Tronchi originati, Segmento Padr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Range di normalita' Risposta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(significativo solo se il n. e' motori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Range di normalita' Velocita' di Conduzione Sens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(significativo solo se il n. e' sensitiv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Range di normalita' Velocita' di Conduzione Mo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(significativo solo se il n. e' motori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Indagabile-Non Indagabile all' ElettroNeur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inePrinter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LinePrinter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Istanza di un Nervo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LinePrinter"/>
              </a:rPr>
              <a:t>Ner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SCIATICO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SM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["L4","L5","S1","S2"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["PERONEO COMUNE","TIBIALE"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[MinF,MaxF],[MinM,MaxM],[MinS,MaxS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I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Radice &amp; Istanza di radic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LinePrinter"/>
              </a:rPr>
              <a:t>Ra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Sensitiva-Mo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Nervi origin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LinePrinter"/>
              </a:rPr>
              <a:t>Ra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L4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SM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["SCIATICO","FEMORALE","OTTURATORIO"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8640" y="387360"/>
            <a:ext cx="4788000" cy="562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b00e4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460760" y="717480"/>
          <a:ext cx="3997440" cy="509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60760" y="717480"/>
                    <a:ext cx="399744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19040" y="2071800"/>
            <a:ext cx="323856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afd00"/>
                </a:solidFill>
                <a:latin typeface="Times New Roman"/>
              </a:rPr>
              <a:t>Esempio di un concetto concre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r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387360"/>
            <a:ext cx="4330440" cy="562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67320" y="825480"/>
          <a:ext cx="3827520" cy="51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7320" y="825480"/>
                    <a:ext cx="382752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46280" y="2071800"/>
            <a:ext cx="2606400" cy="30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afd00"/>
                </a:solidFill>
                <a:latin typeface="Times New Roman"/>
              </a:rPr>
              <a:t>Esempio di un concetto astrat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potesi di sede di les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4640" y="636480"/>
            <a:ext cx="348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Ibrid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720" y="2590920"/>
            <a:ext cx="3585240" cy="155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 Sistema Esperto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’esperienza tipica di 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perto di un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2360" y="2590920"/>
            <a:ext cx="4103640" cy="155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a Rete Neurale è 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ma che generaliz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 propria conosc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21560" y="4724280"/>
            <a:ext cx="5127480" cy="155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 fusione di questi due paradig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lla Intelligenza Artifici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nde il nome di Sistema Ib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4191120"/>
            <a:ext cx="1308240" cy="1803240"/>
          </a:xfrm>
          <a:custGeom>
            <a:avLst/>
            <a:gdLst/>
            <a:ahLst/>
            <a:rect l="l" t="t" r="r" b="b"/>
            <a:pathLst>
              <a:path w="928" h="1136">
                <a:moveTo>
                  <a:pt x="728" y="0"/>
                </a:moveTo>
                <a:cubicBezTo>
                  <a:pt x="828" y="440"/>
                  <a:pt x="928" y="880"/>
                  <a:pt x="824" y="1008"/>
                </a:cubicBezTo>
                <a:cubicBezTo>
                  <a:pt x="720" y="1136"/>
                  <a:pt x="208" y="808"/>
                  <a:pt x="104" y="768"/>
                </a:cubicBezTo>
                <a:cubicBezTo>
                  <a:pt x="0" y="728"/>
                  <a:pt x="100" y="748"/>
                  <a:pt x="200" y="76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8400" y="4191120"/>
            <a:ext cx="1435320" cy="1714320"/>
          </a:xfrm>
          <a:custGeom>
            <a:avLst/>
            <a:gdLst/>
            <a:ahLst/>
            <a:rect l="l" t="t" r="r" b="b"/>
            <a:pathLst>
              <a:path w="904" h="1080">
                <a:moveTo>
                  <a:pt x="376" y="0"/>
                </a:moveTo>
                <a:cubicBezTo>
                  <a:pt x="188" y="420"/>
                  <a:pt x="0" y="840"/>
                  <a:pt x="88" y="960"/>
                </a:cubicBezTo>
                <a:cubicBezTo>
                  <a:pt x="176" y="1080"/>
                  <a:pt x="768" y="760"/>
                  <a:pt x="904" y="720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2679840"/>
            <a:ext cx="8292960" cy="212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200" y="2895480"/>
            <a:ext cx="61484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114ffb"/>
                </a:solidFill>
                <a:latin typeface="Times New Roman"/>
              </a:rPr>
              <a:t>Approccio strutturat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114ffb"/>
                </a:solidFill>
                <a:latin typeface="Times New Roman"/>
              </a:rPr>
              <a:t> </a:t>
            </a:r>
            <a:r>
              <a:rPr b="0" i="1" lang="en-GB" sz="5400" spc="-1" strike="noStrike">
                <a:solidFill>
                  <a:srgbClr val="114ffb"/>
                </a:solidFill>
                <a:latin typeface="Times New Roman"/>
              </a:rPr>
              <a:t>KA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5360" y="1892160"/>
            <a:ext cx="7311600" cy="64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29960" y="1892160"/>
            <a:ext cx="6887520" cy="715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" y="10043"/>
                </a:moveTo>
                <a:arcTo wR="10800" hR="10800" stAng="-10558755" swAng="5157170"/>
                <a:lnTo>
                  <a:pt x="10800" y="10800"/>
                </a:lnTo>
                <a:close/>
              </a:path>
              <a:path fill="none" w="21600" h="21600">
                <a:moveTo>
                  <a:pt x="27" y="10043"/>
                </a:moveTo>
                <a:arcTo wR="10800" hR="10800" stAng="-10558755" swAng="515717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520" y="3489480"/>
            <a:ext cx="22748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Concept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70240" y="222120"/>
            <a:ext cx="5165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Stages in evolution of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an expert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64040" y="3778200"/>
            <a:ext cx="109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53200" y="3489480"/>
            <a:ext cx="22748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181480"/>
            <a:ext cx="2274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1660680"/>
            <a:ext cx="22748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Form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0400" y="5165640"/>
            <a:ext cx="2274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61722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Determining problem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44974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Finding concepts to represent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6686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Designing structures to organize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44974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Formulating rules that embody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3720" y="617364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Validating rules that embody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KADS  modelling approach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514600"/>
            <a:ext cx="0" cy="55260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7000" y="1828800"/>
            <a:ext cx="2992680" cy="520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vello Concettu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3733920"/>
            <a:ext cx="0" cy="5522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0560" y="3048120"/>
            <a:ext cx="2992680" cy="520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vello Inferenzi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4952880"/>
            <a:ext cx="0" cy="55260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9560" y="4343400"/>
            <a:ext cx="1986840" cy="520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vello T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74120" y="5562720"/>
            <a:ext cx="2559600" cy="520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vello Strate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Approcci nella craezione</a:t>
            </a: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di un S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2819160" cy="1523880"/>
          </a:xfrm>
          <a:prstGeom prst="rect">
            <a:avLst/>
          </a:prstGeom>
          <a:solidFill>
            <a:srgbClr val="fafd00"/>
          </a:solidFill>
          <a:ln w="9360">
            <a:solidFill>
              <a:srgbClr val="50009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00093"/>
                </a:solidFill>
                <a:latin typeface="Times New Roman"/>
              </a:rPr>
              <a:t>Struttu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1523880"/>
          </a:xfrm>
          <a:prstGeom prst="rect">
            <a:avLst/>
          </a:prstGeom>
          <a:solidFill>
            <a:srgbClr val="f35b1b"/>
          </a:solidFill>
          <a:ln w="9360">
            <a:solidFill>
              <a:srgbClr val="7b00e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totipizzazione Ra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KADS  modelling approach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L'approccio strutturato perseguito nella fase di formalizzazione del dominio permette di separare completamente questa fase dalla fase dell'implementazione vera e propria del SE, rendendo il sist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modul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espandi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modifica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trasportab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KADS  modelling approach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-30492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CG Times (WN)"/>
              </a:rPr>
              <a:t>Livello Concettuale: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i concetti individuati sono integrati tra loro per mezzo di primitive concettua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CG Times (WN)"/>
              </a:rPr>
              <a:t>Livello dell'Inferenza: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descrive soltanto le inferenze possibili senza alcun riferimento al loro eventuale utilizzo. La </a:t>
            </a:r>
            <a:r>
              <a:rPr b="0" i="1" lang="en-GB" sz="2800" spc="-1" strike="noStrike">
                <a:solidFill>
                  <a:srgbClr val="ffffff"/>
                </a:solidFill>
                <a:latin typeface="CG Times (WN)"/>
              </a:rPr>
              <a:t>struttura inferenziale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è definita in termini di </a:t>
            </a:r>
            <a:r>
              <a:rPr b="0" i="1" lang="en-GB" sz="2800" spc="-1" strike="noStrike">
                <a:solidFill>
                  <a:srgbClr val="ffffff"/>
                </a:solidFill>
                <a:latin typeface="CG Times (WN)"/>
              </a:rPr>
              <a:t>meta-classi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, ognuna delle quali descrive il ruolo dei concetti del dominio (ipotesi, dato, ...) e delle sorgenti di conoscenza (quali sono ad esempio gli elementi di conoscenza necessari ad una certa inferenza tra concetti di due meta-classi distint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KADS  modelling approach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2" marL="1051560" indent="-2102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CG Times (WN)"/>
              </a:rPr>
              <a:t>Livello del task: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viene specificato come le possibili inferenze possono essere utilizzate per svolgere un determinato compito. Naturalmente è possibile definire più tasks su di una stessa struttura inferenziale, in modo da specificare metodi diversi per ottenere uno stesso obiettivo, o possibilmente obiettivi diver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CG Times (WN)"/>
              </a:rPr>
              <a:t>Livello delle Strategie: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specifica il piano di controllo per il livello dei tas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63880" y="1149480"/>
            <a:ext cx="5168880" cy="50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12840" y="1328760"/>
          <a:ext cx="5050080" cy="47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2840" y="1328760"/>
                    <a:ext cx="505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870000" y="227160"/>
            <a:ext cx="132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afd00"/>
                </a:solidFill>
                <a:latin typeface="Times New Roman"/>
              </a:rPr>
              <a:t>KA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empio centrale 118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(pubblica, dichiarativa, procedurale, piv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malizzazione conoscenza (KADS: concetti, inferenze, task, strate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azione conoscenza (Prolo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ipetib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onoscenza a basso c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utoriale o Di Suppor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rasportab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michevole e facile da interagi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segnamento di un protocol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tegrato con gli strumen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Prolo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ttern mat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e-based data structu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omatic back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Prolo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no sempre veri. Nervo (Sciatic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g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:-B,C. A è vero se sono veri B &amp;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è head, B &amp; C sono una lista di goals e formano il bo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Data Object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omi -&gt; genitore (mamma, figli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umeri -&gt; maggiore (4,3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inghe -&gt; dentro (i, Ciao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abili -&gt; genitore (X,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utture -&gt;(liste [ Head| Tail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25909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empi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0081"/>
                </a:solidFill>
                <a:latin typeface="Times New Roman"/>
              </a:rPr>
              <a:t>Fatt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bubu, ner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 zorro, marro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 bobo, marro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drone (gigi, bubu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drone (maria, bobo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0"/>
            <a:ext cx="4038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0081"/>
                </a:solidFill>
                <a:latin typeface="Times New Roman"/>
              </a:rPr>
              <a:t>Reg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ede (X,Y)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drone (X,Y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Y,Z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ede_nero (X,Y)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drone (X,Y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Y, ner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0081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X,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X,marro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bubu, marro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ede (X, bubu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LPA Prolo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log per ambiente Win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mbiente gra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etti Modul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Dominio di Applicazion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9160" y="176364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copo (purpo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sigenze u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cessità u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guagg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2760" y="1600200"/>
            <a:ext cx="7899120" cy="335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360" y="1965240"/>
            <a:ext cx="51760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Esperti (E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versu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di Suppor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alla Decisione (DD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4560" y="1835280"/>
            <a:ext cx="722628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 desig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9480" y="2139840"/>
            <a:ext cx="3035160" cy="9018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8360" y="2300400"/>
            <a:ext cx="296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 di conosc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9480" y="3587760"/>
            <a:ext cx="3035160" cy="97776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78360" y="3824280"/>
            <a:ext cx="285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moria di lavo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8480" y="2749680"/>
            <a:ext cx="3111480" cy="113004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3200" y="3048120"/>
            <a:ext cx="301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tore Inferenzi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5416560"/>
            <a:ext cx="2654280" cy="67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45960" y="55008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t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438280"/>
            <a:ext cx="1677960" cy="306360"/>
          </a:xfrm>
          <a:custGeom>
            <a:avLst/>
            <a:gdLst/>
            <a:ahLst/>
            <a:rect l="l" t="t" r="r" b="b"/>
            <a:pathLst>
              <a:path w="1057" h="193">
                <a:moveTo>
                  <a:pt x="0" y="0"/>
                </a:moveTo>
                <a:lnTo>
                  <a:pt x="1056" y="0"/>
                </a:lnTo>
                <a:lnTo>
                  <a:pt x="1056" y="192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886200"/>
            <a:ext cx="1753920" cy="23004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0" y="144"/>
                </a:moveTo>
                <a:lnTo>
                  <a:pt x="1104" y="144"/>
                </a:lnTo>
                <a:lnTo>
                  <a:pt x="1104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5029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68580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afd00"/>
                </a:solidFill>
                <a:latin typeface="Times New Roman"/>
              </a:rPr>
              <a:t>Interfacc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azione tra utenti e sistema attraverso un linguaggio vicino linguaggio del dominio di applic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o interattivo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l modulo linguistico deve spiegare il ragionamento sottost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laining H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laining 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914400"/>
            <a:ext cx="4341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afd00"/>
                </a:solidFill>
                <a:latin typeface="Times New Roman"/>
              </a:rPr>
              <a:t>Modulo Linguist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4T12:00:40Z</dcterms:created>
  <dc:creator>DARYA</dc:creator>
  <dc:description/>
  <dc:language>en-US</dc:language>
  <cp:lastModifiedBy>SYNAPSIS</cp:lastModifiedBy>
  <cp:lastPrinted>1997-02-06T16:17:04Z</cp:lastPrinted>
  <dcterms:modified xsi:type="dcterms:W3CDTF">1999-10-17T17:49:00Z</dcterms:modified>
  <cp:revision>27408</cp:revision>
  <dc:subject/>
  <dc:title>hynex, hybrid system</dc:title>
</cp:coreProperties>
</file>